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75D-BD20-416F-918A-95A0FB84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034-821E-4E42-962A-4D6EABC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41B-B67E-454D-87C2-7D550477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288-3B86-4188-8C41-9A7762AF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47F-3C21-4664-93FD-8D9848A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76E-9ED2-4585-87A6-C1642FFE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4AE-D99C-4B61-8B37-290DF67B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A55-540E-45D0-89FD-5DBF4622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897-469F-4D4E-BD7F-AD5671C9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A35-BAD5-4963-A30E-DEF4855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DD2-B5BC-42F7-A69D-79DAA259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3E7-5C54-48F1-9C21-13B96EF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B5D8-56F8-4176-9845-D8AE41759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601-185B-488A-B6E5-5B9E054375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have to be home b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’clock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Keep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 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rules of safe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n you sw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F18-7524-4FC9-937B-1962044032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&amp;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会记住你的忠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6360" y="3352680"/>
            <a:ext cx="61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ll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a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r advic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 mi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CDD-200D-440B-B279-1EC2D8FDE1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赞扬、称赞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352680"/>
            <a:ext cx="74228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B09-A25C-444C-9279-D4BD00987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rai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eroes 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oet has written many poe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in praise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is mother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F2C-9981-4723-B998-FD91A592EC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Paragraph 6, Page 50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do what sb. tells you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遵循，依照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行事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0240" y="3200400"/>
            <a:ext cx="68983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ich the musicia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470-BBE3-4872-A7F5-14794EE31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alway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y ow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inciple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只听她的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648320"/>
            <a:ext cx="575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only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5A0-C983-4A36-B412-492AB0A28E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些村民仍然遵守他们祖先的习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 ___ ______ 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_ of their grandfath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4290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ll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follow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3040" y="419112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ust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C42-2450-474F-9F7E-835C9E9B0A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 …out of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制成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make bricks out of cla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3429000"/>
            <a:ext cx="7099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est Indian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mus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strument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ut of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arge oil c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C15-B9E7-40A2-BBA7-1461818683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…into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制成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villagers her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ambo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n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building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of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in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made from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rape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A78-BF0D-4945-9B6B-D4BCF78E9E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FBE-56ED-4A69-BAD0-9D2A77B23E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deal with some difficult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ong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g Fo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91A-B513-44A5-A758-8C3E613213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t is reported that paper can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oth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 mad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 made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be made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BC2-79EC-4D95-8079-68DD57DC8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67F-98B8-41BB-9C42-E61DFB1B5A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____ by growing r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makes his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s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8A4-37C4-4D22-9F10-067EDEA878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064-3486-4F19-8088-DAF9F6FB51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e should ____ our teachers’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vice on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fo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ass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AAB-51A8-409F-A41B-90B8521606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7DA-E3A3-4D30-B450-C69DD37489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____ that tomorrow is a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 ou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ar in m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Learn b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237-FC7D-481F-B949-4A1A04BC40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4D7-3DEE-47A2-8EBE-ED317C737A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s ring has ____ in my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four genera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been fo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been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asse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AD0-F8AA-45F2-856F-0504C39147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A51-CCCA-4F75-8611-82BABDFC18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   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1, Page 50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e way that people get money for life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生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3276720"/>
            <a:ext cx="63511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y people earn thei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y writing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61F-9819-489E-A074-97DC40956F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leader spoke __ the man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d given his life for the ca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loud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n this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in praise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C46-FDFF-43DD-BD65-554A567249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3, Paragraph 1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y usually write ex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c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w the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 to be play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通常还要为如何演奏这些音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出准确的说明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193-6A47-4028-914B-8FF93C701B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always asks hersel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estio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at is to be done nex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have no idea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you 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er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A52-030A-47D7-87A2-30C88DAD16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 festivals they used to ac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ng in praise of heroe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who liv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ong ag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B5E-80C2-42D9-80A4-03691A297D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6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7640" y="2666880"/>
            <a:ext cx="64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was at a tim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en th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s no radio, TV or cin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2520" y="4648320"/>
            <a:ext cx="689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re is a basic pattern of no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ich the musician follow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49B-E8CD-4F4E-9FAC-FF39CB4C02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5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在加勒比海地区，从非洲运来的奴隶发展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他们自己的音乐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7440" y="2666880"/>
            <a:ext cx="717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Caribbean the slave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ho w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rought from Afric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evelop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ir own kind of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47A-171B-4EE3-ADD5-BA187BA83E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1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some parts of the world nowadays, you often see music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erforming in the streets to passers-b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D06-3F30-4660-B233-4C5CC8DED9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ine 2, Paragraph 4, Page 5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put a cap on the ground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nt of them,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o tha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people wh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ke the music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rop coins in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B4-69B6-4EF1-A098-BB5147CC98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y father bought a bicycle so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u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get to school quick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studies hard so that 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cce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rested so that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i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BA1-2A3D-4B46-8D8B-3FBBDED193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2, Paragraph 4, Page 50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t produces musicals too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at 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ilms with music, and million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cords are sold every year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5A4-2D11-42A3-A054-B1898D58F9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ke/ earn one’s living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谋生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r. Smith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ed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arde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 teac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earns his liv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, a writer by wri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3DA-C404-47CB-AAEE-48DF36124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ff"/>
                </a:solidFill>
                <a:latin typeface="宋体"/>
              </a:rPr>
              <a:t>插入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即插入到句子中间，或是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在句字末尾，不充当句子成分的词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短语或句子。它主要起修饰或补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说明的作用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1BD-CDD9-4B05-9EA5-2BBB11F3DA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fficult Sent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插入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man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 though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n lost the g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know the people wh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y s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re fo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 can take it home,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f you lik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198-7D03-44C3-BB31-907BBE3A70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主语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游泳有利于健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这条街上禁止停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8480" y="3200400"/>
            <a:ext cx="62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good for h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64832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rking on this stree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forbid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F42-F6F4-48C2-8C70-DA81BCEA06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宾语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别说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他喜欢在山里宿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880" y="3276720"/>
            <a:ext cx="41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lease stop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lk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200" y="4648320"/>
            <a:ext cx="5502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enjoy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camp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unta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B94-C307-4840-B657-4E77B49085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My hobby i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mak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irpla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2AC-E6A2-41E0-A2E8-9F6A5C6A45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表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最喜欢的运动是游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她的工作是照顾病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9760" y="33526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favorite sport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7960" y="4724280"/>
            <a:ext cx="58546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job i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taking care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tient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F12-A50D-4346-8324-6DB2944AF6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She opened the letter with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rembl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He told us a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uch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What are you planning to do in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com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acation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784-0593-4B83-B987-2FD2DEB072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在句子中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定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gentlem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tanding over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re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s our princip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Men _____________ do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now the pleasure of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f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住在城里的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9625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iving in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11D-6C97-4ED3-9A68-1760D9356C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)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found the bo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ying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gras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I watched hi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int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ou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C31-C94D-4E95-B1DB-5F9B5EA111F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5. -ing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形式可以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充当宾语补足语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听到一只鸟在树林中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看见她在过马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760" y="3276720"/>
            <a:ext cx="73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heard a bird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inging in the wood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3960" y="46483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saw her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alking across the roa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DC6-9C2C-4D09-85B9-E77F4584A8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2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1800" y="3429000"/>
            <a:ext cx="75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olk music has been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dow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9560" y="4724280"/>
            <a:ext cx="76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this way stories wer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passed 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924-F3B0-40FF-978C-9787B74E4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alking in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D05-8154-4DD4-8904-C9F8383529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looks forward every spr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the flower-lined garden.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aying a visit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alk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alkin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BFD-0DE2-4F70-8192-EABB4ECD4B7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Once your business becom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national, ____ constantl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part of your life.        (Shanghai 9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you fl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. your f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718-6C35-4EFC-B970-30A58A135A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049-ECD1-4F63-8C22-C3DCB39DC3F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What worried the child most w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to visit his mother i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spital. (Shanghai 9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is not allow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his not being all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is being not allow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EC7-B1AD-4757-9D0D-B4483267492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945-9468-4E53-B168-8BCD7CD108F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When I got back home I saw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ssage pinned to the do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rry to miss you;  call you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ater”. (NMET 9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ad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ads  C.  re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190-4FF2-4B47-B0C7-886AE505D82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C5C-B663-4694-AECA-9B34303F47A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____ boy was last seen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ear the East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missing, playing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missing,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missed, played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813-12BD-49AC-B11C-46874588EF8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D34-FAE4-48E7-9D13-3BC8A53DE41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o give or leave to people w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re younger or come l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传给、流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注意：三个词组都通常用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被动语态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1A3-F7E0-48E2-88B3-FEC8C0D7F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ony was very unhappy for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o the party. (Shanghai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having not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having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not having been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141-3779-4CD2-8A05-418404AC2D1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5---Page 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actice 6---Page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1---Page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2---Page 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Unit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BD1-D152-49D4-9890-15D977C8F9E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Writing---Page 5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9BD-575B-4747-80A4-C38BCBF4595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ass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lett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o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anager as soon as I go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is custom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s been h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ince the 18th centu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B4E-508A-4B56-92AC-8F1C20B39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ss down/on, hand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好传统应该世代相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ood traditions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76720"/>
            <a:ext cx="114933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                     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sh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ow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from one generation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FBD-E589-45B8-8F84-EFF39EA00B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… by hear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记住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50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keep in mind   &amp;   bear in mind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440" y="3429000"/>
            <a:ext cx="66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y used to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lear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undreds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ngs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hear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FAA-1D9D-4925-BC15-4CCEA2014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8:25:24Z</dcterms:created>
  <dc:creator>BJ4HS</dc:creator>
  <dc:description/>
  <dc:language>en-US</dc:language>
  <cp:lastModifiedBy>Zhang Lingdi</cp:lastModifiedBy>
  <dcterms:modified xsi:type="dcterms:W3CDTF">2003-06-03T06:48:16Z</dcterms:modified>
  <cp:revision>105</cp:revision>
  <dc:subject/>
  <dc:title>Unit 21 Music （二）</dc:title>
</cp:coreProperties>
</file>